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76F-1242-49F3-A681-8009AB88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71B-7B23-4210-B018-3B2D02C0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11A3-AA1C-4B73-9350-3AB00FED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299-20F8-44F6-88D6-F40AA07E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3559-9F70-4041-92A5-EC0EED85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A913-49ED-4C82-A95A-1979330D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F3CC-2D53-4D65-A122-D3CB6C37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4E0A-6C67-41AD-BC84-80E76E4D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0383-86FD-4DF1-A0D0-766FD901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2D72-A070-47EA-847A-BD3280EE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7ECD-193C-49B3-A418-1F1EBF0F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C694-FDE3-4585-9B5E-58087215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5E6B-2C58-4B3E-B6C7-03DF5586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3B5E-0233-4ED3-93FE-ECB517F3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31B4-601E-4F13-97DF-0DD692DA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2378-1F5F-448C-A842-0972D00A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5D15-31FB-4A69-A852-2723CF89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140B-7200-4F81-B1B6-B147F089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DEE-F8B3-404E-BD62-6AA5A44D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2F3-F8BA-4E50-B197-BC2647C0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7754-55AF-4AA5-B335-3E7E394A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085-AFC7-4B9E-95CA-9AE75AFC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814-37AD-4490-B091-61881AC1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FC2C-51B7-493C-B4EF-1CD48E8A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任意多边形 3072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直接连接符 30724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3EC8-9F87-4AC4-80F2-8B9DFC2E3EC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图片 30728" descr="634560926177690000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任意多边形 31750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图片 31751" descr="634560926177690000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208A-A618-4C75-B480-1461F3970030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aike.baidu.com/albums/8423/8423/0/0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6149" descr="166235_132418074630_2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矩形 6147"/>
          <p:cNvSpPr txBox="1"/>
          <p:nvPr/>
        </p:nvSpPr>
        <p:spPr>
          <a:xfrm>
            <a:off x="838080" y="380880"/>
            <a:ext cx="6782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第六章  爱护植被  绿化祖国</a:t>
            </a:r>
            <a:endParaRPr b="0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76920" y="304920"/>
            <a:ext cx="36986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荒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Verdana"/>
                <a:ea typeface="黑体"/>
              </a:rPr>
              <a:t>荒漠的生态条件极为严酷，夏季炎热干燥，土地贫脊，植物稀疏，且都十分耐旱。主要分布在西藏，新疆等地。但在这里却顽强生活着藏羚羊，牦牛等动物。近年来，这些珍贵的野生动物正在遭受人类灭绝性的屠杀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图片 43015" descr="l5"/>
          <p:cNvPicPr/>
          <p:nvPr/>
        </p:nvPicPr>
        <p:blipFill>
          <a:blip r:embed="rId1"/>
          <a:stretch/>
        </p:blipFill>
        <p:spPr>
          <a:xfrm>
            <a:off x="0" y="990720"/>
            <a:ext cx="4419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我国植被面临的主要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森林覆盖率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内容占位符 44036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5486400" cy="32767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4038"/>
          <p:cNvSpPr/>
          <p:nvPr/>
        </p:nvSpPr>
        <p:spPr>
          <a:xfrm>
            <a:off x="2590920" y="53341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由于我国人口众多，人均森林面积更少，只有</a:t>
            </a:r>
            <a:r>
              <a:rPr b="0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0.145</a:t>
            </a:r>
            <a:r>
              <a:rPr b="0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公顷，不足世界人均水平的</a:t>
            </a:r>
            <a:r>
              <a:rPr b="0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1/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乱砍滥伐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文本占位符 45059" descr="小鸟的悲哀"/>
          <p:cNvPicPr/>
          <p:nvPr/>
        </p:nvPicPr>
        <p:blipFill>
          <a:blip r:embed="rId1"/>
          <a:stretch/>
        </p:blipFill>
        <p:spPr>
          <a:xfrm>
            <a:off x="2819520" y="533520"/>
            <a:ext cx="6324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zh-CN" sz="3800" spc="-1" strike="noStrike">
                <a:solidFill>
                  <a:srgbClr val="ff0000"/>
                </a:solidFill>
                <a:latin typeface="Verdana"/>
                <a:ea typeface="黑体"/>
              </a:rPr>
              <a:t>过度放牧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文本占位符 48131" descr="小草的哀求"/>
          <p:cNvPicPr/>
          <p:nvPr/>
        </p:nvPicPr>
        <p:blipFill>
          <a:blip r:embed="rId1"/>
          <a:stretch/>
        </p:blipFill>
        <p:spPr>
          <a:xfrm>
            <a:off x="0" y="1600200"/>
            <a:ext cx="4343400" cy="48006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8132" descr="021901desert300"/>
          <p:cNvPicPr/>
          <p:nvPr/>
        </p:nvPicPr>
        <p:blipFill>
          <a:blip r:embed="rId2"/>
          <a:stretch/>
        </p:blipFill>
        <p:spPr>
          <a:xfrm>
            <a:off x="4819680" y="1600200"/>
            <a:ext cx="4324320" cy="4952880"/>
          </a:xfrm>
          <a:prstGeom prst="rect">
            <a:avLst/>
          </a:prstGeom>
          <a:ln w="0">
            <a:noFill/>
          </a:ln>
        </p:spPr>
      </p:pic>
      <p:sp>
        <p:nvSpPr>
          <p:cNvPr id="129" name="圆角矩形 48133"/>
          <p:cNvSpPr/>
          <p:nvPr/>
        </p:nvSpPr>
        <p:spPr>
          <a:xfrm>
            <a:off x="3124080" y="6019920"/>
            <a:ext cx="4038840" cy="838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过度放牧使草原荒漠化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保护植被  从我做起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森林的衰退和草原的荒漠化，使得我们的生存环境正遭受着各种自然灾害，比如泥石流，沙尘暴，滑坡，洪灾、、、、、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我国出台了一些保护植被的政策，以走上可持续的发展道路，比如说退耕还林，每年的</a:t>
            </a:r>
            <a:r>
              <a:rPr b="1" i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i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月</a:t>
            </a:r>
            <a:r>
              <a:rPr b="1" i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1" i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日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是我国的植树节，这一天，许多人积极的参加植树造林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只要我们都参与植树造林，爱护植被，我们的祖国会更加的生机盎然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标题 51203" descr="沙漠的防治"/>
          <p:cNvPicPr/>
          <p:nvPr/>
        </p:nvPicPr>
        <p:blipFill>
          <a:blip r:embed="rId1"/>
          <a:stretch/>
        </p:blipFill>
        <p:spPr>
          <a:xfrm>
            <a:off x="0" y="0"/>
            <a:ext cx="4952880" cy="411948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51204" descr="沙漠边缘的防风林带"/>
          <p:cNvPicPr/>
          <p:nvPr/>
        </p:nvPicPr>
        <p:blipFill>
          <a:blip r:embed="rId2"/>
          <a:stretch/>
        </p:blipFill>
        <p:spPr>
          <a:xfrm>
            <a:off x="4114800" y="2517840"/>
            <a:ext cx="5029200" cy="43401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51206" descr="2011467452064"/>
          <p:cNvPicPr/>
          <p:nvPr/>
        </p:nvPicPr>
        <p:blipFill>
          <a:blip r:embed="rId3"/>
          <a:stretch/>
        </p:blipFill>
        <p:spPr>
          <a:xfrm>
            <a:off x="152280" y="2514600"/>
            <a:ext cx="3810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作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黑体"/>
              </a:rPr>
              <a:t>你所在地是否发生过洪涝灾害、干旱或者沙尘暴？请选择其中一种，收集与这个事情有关的资料，分析这些灾害形成与植被的关系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7188" descr="2399558_161525004422_2"/>
          <p:cNvPicPr/>
          <p:nvPr/>
        </p:nvPicPr>
        <p:blipFill>
          <a:blip r:embed="rId1"/>
          <a:stretch/>
        </p:blipFill>
        <p:spPr>
          <a:xfrm>
            <a:off x="4648320" y="3722760"/>
            <a:ext cx="4647960" cy="3135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Verdana"/>
                <a:ea typeface="黑体"/>
              </a:rPr>
              <a:t>爱护花草树木的标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黑体"/>
                <a:ea typeface="黑体"/>
              </a:rPr>
              <a:t># </a:t>
            </a:r>
            <a:r>
              <a:rPr b="0" lang="zh-CN" sz="3000" spc="-1" strike="noStrike">
                <a:solidFill>
                  <a:srgbClr val="0000cc"/>
                </a:solidFill>
                <a:latin typeface="黑体"/>
                <a:ea typeface="黑体"/>
              </a:rPr>
              <a:t>一花一草皆生命，一枝一叶总关情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黑体"/>
                <a:ea typeface="黑体"/>
              </a:rPr>
              <a:t>#</a:t>
            </a:r>
            <a:r>
              <a:rPr b="0" lang="zh-CN" sz="3000" spc="-1" strike="noStrike">
                <a:solidFill>
                  <a:srgbClr val="0000cc"/>
                </a:solidFill>
                <a:latin typeface="黑体"/>
                <a:ea typeface="黑体"/>
              </a:rPr>
              <a:t>来时给你一阵芳香，走时还我一身洁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黑体"/>
                <a:ea typeface="黑体"/>
              </a:rPr>
              <a:t>#</a:t>
            </a:r>
            <a:r>
              <a:rPr b="0" lang="zh-CN" sz="3000" spc="-1" strike="noStrike">
                <a:solidFill>
                  <a:srgbClr val="0000cc"/>
                </a:solidFill>
                <a:latin typeface="黑体"/>
                <a:ea typeface="黑体"/>
              </a:rPr>
              <a:t>踏破青毡可惜，多行数步何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黑体"/>
                <a:ea typeface="黑体"/>
              </a:rPr>
              <a:t>#</a:t>
            </a:r>
            <a:r>
              <a:rPr b="0" lang="zh-CN" sz="3000" spc="-1" strike="noStrike">
                <a:solidFill>
                  <a:srgbClr val="0000cc"/>
                </a:solidFill>
                <a:latin typeface="黑体"/>
                <a:ea typeface="黑体"/>
              </a:rPr>
              <a:t>花开堪赏直须赏，莫要折花空赏枝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黑体"/>
                <a:ea typeface="黑体"/>
              </a:rPr>
              <a:t>#</a:t>
            </a:r>
            <a:r>
              <a:rPr b="0" lang="zh-CN" sz="3000" spc="-1" strike="noStrike">
                <a:solidFill>
                  <a:srgbClr val="0000cc"/>
                </a:solidFill>
                <a:latin typeface="黑体"/>
                <a:ea typeface="黑体"/>
              </a:rPr>
              <a:t>花草丛中笑，园外赏其貌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  <a:ea typeface="黑体"/>
              </a:rPr>
              <a:t>我国主要的植被类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植被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cc"/>
                </a:solidFill>
                <a:latin typeface="Verdana"/>
                <a:ea typeface="黑体"/>
              </a:rPr>
              <a:t>一个地区内生长的所有的植物叫做这个地区的植被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我国的主要植被类型有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cc"/>
                </a:solidFill>
                <a:latin typeface="Verdana"/>
                <a:ea typeface="黑体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椭圆 8197"/>
          <p:cNvSpPr/>
          <p:nvPr/>
        </p:nvSpPr>
        <p:spPr>
          <a:xfrm>
            <a:off x="2438280" y="3581280"/>
            <a:ext cx="4343400" cy="35053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热带雨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常绿阔叶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落叶阔叶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针叶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草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荒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9222" descr="3150906_212712081353_2"/>
          <p:cNvPicPr/>
          <p:nvPr/>
        </p:nvPicPr>
        <p:blipFill>
          <a:blip r:embed="rId1"/>
          <a:stretch/>
        </p:blipFill>
        <p:spPr>
          <a:xfrm>
            <a:off x="4572000" y="1905120"/>
            <a:ext cx="4724280" cy="6514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35053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  <a:ea typeface="黑体"/>
              </a:rPr>
              <a:t>热带雨林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240" y="1523880"/>
            <a:ext cx="4308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cc"/>
                </a:solidFill>
                <a:latin typeface="Arial"/>
                <a:ea typeface="黑体"/>
              </a:rPr>
              <a:t>进入到森林之中，你仿佛来到一个神话世界。在这里抬头不见蓝天，低头满眼苔藓，密不透风的林中潮湿闷热，脚下到处湿滑。这里光线暗淡，虫蛇出没，人们在其间行走，不仅困难重重，而且也很危险。但是，这里却是生物的乐园</a:t>
            </a:r>
            <a:r>
              <a:rPr b="1" lang="zh-CN" sz="2200" spc="-1" strike="noStrike">
                <a:solidFill>
                  <a:srgbClr val="0000cc"/>
                </a:solidFill>
                <a:latin typeface="Arial"/>
                <a:ea typeface="黑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219280" y="-36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热带雨林分布在全年高温多雨的地区，植物种类特别丰富，终年常绿，大部分植株都很高大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主要分布在南方地区的</a:t>
            </a:r>
            <a:r>
              <a:rPr b="0" i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云南，台湾，海南</a:t>
            </a:r>
            <a:r>
              <a:rPr b="0" i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 热带雨林分布的地区，年降雨量很高，通常高于</a:t>
            </a:r>
            <a:r>
              <a:rPr b="0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1800 </a:t>
            </a:r>
            <a:r>
              <a:rPr b="0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毫米，有些地方达</a:t>
            </a:r>
            <a:r>
              <a:rPr b="0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3500</a:t>
            </a:r>
            <a:r>
              <a:rPr b="0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毫米。所以称为热带雨林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图片 32775" descr="3855081281029896198"/>
          <p:cNvPicPr/>
          <p:nvPr/>
        </p:nvPicPr>
        <p:blipFill>
          <a:blip r:embed="rId1"/>
          <a:stretch/>
        </p:blipFill>
        <p:spPr>
          <a:xfrm>
            <a:off x="0" y="0"/>
            <a:ext cx="532440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常绿阔叶林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19720" y="1142640"/>
            <a:ext cx="487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cc"/>
                </a:solidFill>
                <a:latin typeface="黑体"/>
                <a:ea typeface="黑体"/>
              </a:rPr>
              <a:t>常绿阔叶林分布在气候比较炎热、湿润的地区，比如中国的云贵高原、四川、台湾岛等地；这里的植物以常绿阔叶树为主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Verdana"/>
              </a:rPr>
              <a:t>常绿阔叶林虽然也是终年常绿，但与热带雨林不同，常绿阔叶林内有一定的季节变化，与落叶阔叶林类似。常绿阔叶林花期多集中在春末夏初，结果多在秋季。常绿阔叶林中的有些动物有冬眠的现象，特别是两栖类和爬行类等变温动物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图片 10244" descr="20090816101805205"/>
          <p:cNvPicPr/>
          <p:nvPr/>
        </p:nvPicPr>
        <p:blipFill>
          <a:blip r:embed="rId1"/>
          <a:stretch/>
        </p:blipFill>
        <p:spPr>
          <a:xfrm>
            <a:off x="0" y="1523880"/>
            <a:ext cx="4114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  <a:ea typeface="黑体"/>
              </a:rPr>
              <a:t>落叶阔叶林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cc"/>
                </a:solidFill>
                <a:latin typeface="Verdana"/>
                <a:ea typeface="黑体"/>
              </a:rPr>
              <a:t>落叶阔叶林的分布四季分明，夏季炎热多雨，冬季寒冷，这里的植物主要是冬季完全落叶的阔叶树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cc"/>
                </a:solidFill>
                <a:latin typeface="黑体"/>
                <a:ea typeface="黑体"/>
              </a:rPr>
              <a:t>中国的落叶阔叶林主要分布在东北地区的南部和华北各省，包括辽宁南部，内蒙古东南部，河北、山西的恒山至兴县一线以南，山东、陕西的黄土高原南部，渭河平原以及秦岭北坡，甘肃的徽县、成县地区，河南的伏牛山及淮河以北，安徽和江苏的淮北平原等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矩形 36872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矩形 3687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图片 36876" descr="1228962749VccWCW6k"/>
          <p:cNvPicPr/>
          <p:nvPr/>
        </p:nvPicPr>
        <p:blipFill>
          <a:blip r:embed="rId1"/>
          <a:stretch/>
        </p:blipFill>
        <p:spPr>
          <a:xfrm>
            <a:off x="0" y="1676520"/>
            <a:ext cx="468648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3699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200" spc="-1" strike="noStrike">
                <a:solidFill>
                  <a:srgbClr val="0000cc"/>
                </a:solidFill>
                <a:latin typeface="Verdana"/>
              </a:rPr>
              <a:t>针叶林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cc"/>
                </a:solidFill>
                <a:latin typeface="Verdana"/>
              </a:rPr>
              <a:t>针叶林主要分布在夏季温凉，冬季严寒的地区，这里的植物以松、杉等针叶为主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cc"/>
                </a:solidFill>
                <a:latin typeface="Verdana"/>
              </a:rPr>
              <a:t>分布在我国的大兴安岭、小兴安岭等地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图片 37895" descr="t358-28"/>
          <p:cNvPicPr/>
          <p:nvPr/>
        </p:nvPicPr>
        <p:blipFill>
          <a:blip r:embed="rId1"/>
          <a:stretch/>
        </p:blipFill>
        <p:spPr>
          <a:xfrm>
            <a:off x="0" y="1371600"/>
            <a:ext cx="4495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Verdana"/>
              </a:rPr>
              <a:t>                     </a:t>
            </a:r>
            <a:r>
              <a:rPr b="0" lang="zh-CN" sz="5000" spc="-1" strike="noStrike">
                <a:solidFill>
                  <a:srgbClr val="0000cc"/>
                </a:solidFill>
                <a:latin typeface="Verdana"/>
              </a:rPr>
              <a:t>草原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ff"/>
                </a:solidFill>
                <a:latin typeface="Verdana"/>
              </a:rPr>
              <a:t>    </a:t>
            </a:r>
            <a:r>
              <a:rPr b="0" lang="zh-CN" sz="2200" spc="-1" strike="noStrike">
                <a:solidFill>
                  <a:srgbClr val="6600ff"/>
                </a:solidFill>
                <a:latin typeface="Verdana"/>
                <a:ea typeface="黑体"/>
              </a:rPr>
              <a:t>草原植物普遍存在旱生结构，叶片狭窄，根系比较浅但非常密集，可在雨后迅速吸收水分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我国草原一般可以划为五个大区：东北草原区、蒙</a:t>
            </a:r>
            <a:r>
              <a:rPr b="0" lang="zh-CN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宁甘草原区、新疆草原区、青藏草原区和南方草山草坡区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图片 40964" descr="1412106_000858546_2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4T06:25:03Z</dcterms:created>
  <dc:creator/>
  <dc:description/>
  <dc:language>en-US</dc:language>
  <cp:lastModifiedBy>冰冷脸</cp:lastModifiedBy>
  <dcterms:modified xsi:type="dcterms:W3CDTF">2017-12-14T06:26:2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  <property fmtid="{D5CDD505-2E9C-101B-9397-08002B2CF9AE}" pid="3" name="Version">
    <vt:r8>1</vt:r8>
  </property>
</Properties>
</file>